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37D5-0350-47E3-B29E-FC689B91C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7228-26D4-456D-92ED-DDC6247DA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7CF6-9DF5-4219-BD34-51E93EF6B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D234-EB21-4D71-BAA0-72A3F2E2C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8139-8DE9-4984-8487-EC04A17BA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4123-6A40-49A5-9F01-1FD8645D9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63D9-3363-49ED-9F97-1281D1638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39A2-293C-41EE-98EA-4446F6A50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AF6E-61EF-472B-A163-5ADFF4F7A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86AF-5298-4805-84C9-58DA1318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1341-9954-4104-BF06-D7F867B7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059D-85D1-4E1A-9293-8E982905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EB76B0-31F5-4C21-9CCC-D2E1F30556F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979640"/>
            <a:ext cx="10080720" cy="306072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4360" y="2519280"/>
            <a:ext cx="179640" cy="179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4360" y="2808360"/>
            <a:ext cx="17964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4360" y="3959280"/>
            <a:ext cx="17964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4360" y="4248000"/>
            <a:ext cx="179640" cy="179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313200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223200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395928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453564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3280" y="313200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92000" y="2232000"/>
            <a:ext cx="17964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92000" y="2519280"/>
            <a:ext cx="179640" cy="179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92000" y="2808360"/>
            <a:ext cx="17964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92000" y="3959280"/>
            <a:ext cx="17964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8720" y="313200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16000" y="223200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280836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395928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16000" y="4248000"/>
            <a:ext cx="179280" cy="179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52360" y="313200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40000" y="223200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40000" y="280836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40000" y="338472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40000" y="367200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40000" y="395928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40000" y="453564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476360" y="313200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63640" y="2519280"/>
            <a:ext cx="179640" cy="179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959280"/>
            <a:ext cx="17964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4248000"/>
            <a:ext cx="179640" cy="179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63640" y="4535640"/>
            <a:ext cx="17964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00360" y="3132000"/>
            <a:ext cx="10764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087640" y="223200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87640" y="2519280"/>
            <a:ext cx="179280" cy="179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87640" y="280836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087640" y="395928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60720" y="450072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124000" y="313200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11280" y="2519280"/>
            <a:ext cx="179640" cy="179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11280" y="3384720"/>
            <a:ext cx="17964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11280" y="3672000"/>
            <a:ext cx="17964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11280" y="3959280"/>
            <a:ext cx="17964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4248000"/>
            <a:ext cx="179640" cy="179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48000" y="313200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735280" y="223200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735280" y="2519280"/>
            <a:ext cx="179280" cy="179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35280" y="280836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35280" y="338472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35280" y="367200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35280" y="395928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735280" y="453564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71640" y="313200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60720" y="223200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60720" y="280836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60720" y="338472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60720" y="367200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60720" y="395928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60720" y="4248000"/>
            <a:ext cx="179280" cy="179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60720" y="453564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95640" y="313200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84720" y="223200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84720" y="2519280"/>
            <a:ext cx="179280" cy="179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84720" y="280836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84720" y="338472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384720" y="453564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19640" y="3132000"/>
            <a:ext cx="10764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08360" y="223200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08360" y="2519280"/>
            <a:ext cx="179280" cy="179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08360" y="280836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08360" y="338472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08360" y="367200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08360" y="395928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708360" y="4248000"/>
            <a:ext cx="179280" cy="179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43280" y="313200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032360" y="223200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032360" y="280836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032360" y="367200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032360" y="395928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032360" y="4248000"/>
            <a:ext cx="179280" cy="179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32360" y="453564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068720" y="313200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56000" y="2519280"/>
            <a:ext cx="179640" cy="179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356000" y="2808360"/>
            <a:ext cx="17964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356000" y="3384720"/>
            <a:ext cx="17964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356000" y="3672000"/>
            <a:ext cx="17964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356000" y="4248000"/>
            <a:ext cx="179640" cy="179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356000" y="4535640"/>
            <a:ext cx="17964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392720" y="313200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80000" y="223200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0000" y="338472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80000" y="395928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0000" y="4248000"/>
            <a:ext cx="179280" cy="179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16360" y="313200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03640" y="2519280"/>
            <a:ext cx="179640" cy="179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03640" y="2808360"/>
            <a:ext cx="17964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03640" y="3384720"/>
            <a:ext cx="17964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03640" y="3672000"/>
            <a:ext cx="17964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03640" y="3959280"/>
            <a:ext cx="17964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003640" y="4248000"/>
            <a:ext cx="179640" cy="179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03640" y="4535640"/>
            <a:ext cx="17964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40360" y="313200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27640" y="223200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27640" y="280836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27640" y="338472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27640" y="367200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27640" y="395928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27640" y="4248000"/>
            <a:ext cx="179280" cy="179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27640" y="453564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64000" y="313200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651640" y="223200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651640" y="2519280"/>
            <a:ext cx="179280" cy="179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651640" y="280836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651640" y="338472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651640" y="4248000"/>
            <a:ext cx="179280" cy="179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651640" y="453564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688000" y="313200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975280" y="223200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975280" y="2519280"/>
            <a:ext cx="179280" cy="179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975280" y="338472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975280" y="367200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975280" y="395928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975280" y="453564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12000" y="3132000"/>
            <a:ext cx="10764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300720" y="2519280"/>
            <a:ext cx="179280" cy="179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300720" y="280836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300720" y="338472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300720" y="367200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00720" y="4248000"/>
            <a:ext cx="179280" cy="179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335640" y="313200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624720" y="223200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624720" y="2519280"/>
            <a:ext cx="179280" cy="179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624720" y="280836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624720" y="338472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624720" y="367200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624720" y="395928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624720" y="4248000"/>
            <a:ext cx="179280" cy="179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59640" y="313200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948360" y="2232000"/>
            <a:ext cx="17964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948360" y="2808360"/>
            <a:ext cx="17964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948360" y="3384720"/>
            <a:ext cx="17964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948360" y="3959280"/>
            <a:ext cx="17964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948360" y="4248000"/>
            <a:ext cx="179640" cy="179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948360" y="4535640"/>
            <a:ext cx="17964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83280" y="313200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272360" y="223200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72360" y="2519280"/>
            <a:ext cx="179280" cy="179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272360" y="280836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272360" y="338472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272360" y="395928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2360" y="4248000"/>
            <a:ext cx="179280" cy="179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2360" y="453564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307280" y="313200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596360" y="2519280"/>
            <a:ext cx="179280" cy="179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596360" y="280836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596360" y="338472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596360" y="367200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596360" y="395928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632720" y="313200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920000" y="223200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920000" y="2519280"/>
            <a:ext cx="179280" cy="179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920000" y="280836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20000" y="338472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920000" y="367200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920000" y="395928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920000" y="4248000"/>
            <a:ext cx="179280" cy="179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920000" y="453564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956720" y="3132000"/>
            <a:ext cx="10764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244000" y="223200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244000" y="280836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244000" y="338472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244000" y="395928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244000" y="453564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280360" y="313200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567640" y="3384720"/>
            <a:ext cx="17964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567640" y="3672000"/>
            <a:ext cx="17964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567640" y="4248000"/>
            <a:ext cx="179640" cy="179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567640" y="4535640"/>
            <a:ext cx="17964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604360" y="313200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891640" y="2519280"/>
            <a:ext cx="179280" cy="179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891640" y="280836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891640" y="338472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891640" y="395928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891640" y="4248000"/>
            <a:ext cx="179280" cy="179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891640" y="453564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928000" y="313200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215280" y="2232000"/>
            <a:ext cx="17964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215280" y="2808360"/>
            <a:ext cx="17964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215280" y="3384720"/>
            <a:ext cx="17964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215280" y="3672000"/>
            <a:ext cx="17964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215280" y="4248000"/>
            <a:ext cx="179640" cy="179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215280" y="4535640"/>
            <a:ext cx="17964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252000" y="313200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539280" y="223200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539280" y="2519280"/>
            <a:ext cx="179280" cy="179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9539280" y="338472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539280" y="367200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539280" y="4535640"/>
            <a:ext cx="179280" cy="179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575640" y="3132000"/>
            <a:ext cx="108000" cy="108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3T19:00:13Z</dcterms:created>
  <dc:creator>micha </dc:creator>
  <dc:description/>
  <dc:language>en-US</dc:language>
  <cp:lastModifiedBy/>
  <cp:revision>1</cp:revision>
  <dc:subject/>
  <dc:title/>
</cp:coreProperties>
</file>