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8AF1-130E-4F3D-AA23-74D10EA8E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E7DC-9D7E-465A-B862-5E4B2A8B1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F4FA-0B23-4164-8FC1-78BE8592F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008C-9851-4D48-80ED-6D2249DA7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43EB-561B-44CC-98A5-9855BA02B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2F82-74CD-4823-AD1C-B4E6A3C9D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B680-F4C4-4100-A7BB-63C1C2326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29C3-676F-4E6D-8B47-4CA628FBB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9904-E9A0-4B19-97C6-4B7EA83CD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FA72-098A-4147-8958-F452C508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7123-18C8-4445-8C34-665A17A35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4558-8DE8-4404-89BA-7BEDE1F8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3F2592-5252-4B55-977B-6817F0F8535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979640"/>
            <a:ext cx="10080720" cy="306072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4360" y="2519280"/>
            <a:ext cx="179640" cy="179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4360" y="2808360"/>
            <a:ext cx="17964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4360" y="3959280"/>
            <a:ext cx="17964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4360" y="4248000"/>
            <a:ext cx="179640" cy="179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9280" y="3132000"/>
            <a:ext cx="108000" cy="108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223200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395928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453564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3280" y="3132000"/>
            <a:ext cx="108000" cy="108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92000" y="2232000"/>
            <a:ext cx="17964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92000" y="2519280"/>
            <a:ext cx="179640" cy="179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92000" y="2808360"/>
            <a:ext cx="17964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92000" y="3959280"/>
            <a:ext cx="17964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28720" y="3132000"/>
            <a:ext cx="108000" cy="108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16000" y="223200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280836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395928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16000" y="4248000"/>
            <a:ext cx="179280" cy="179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52360" y="3132000"/>
            <a:ext cx="108000" cy="108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40000" y="223200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40000" y="280836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40000" y="338472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40000" y="367200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40000" y="395928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40000" y="453564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476360" y="3132000"/>
            <a:ext cx="108000" cy="108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63640" y="2519280"/>
            <a:ext cx="179640" cy="179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3959280"/>
            <a:ext cx="17964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4248000"/>
            <a:ext cx="179640" cy="179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63640" y="4535640"/>
            <a:ext cx="17964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00360" y="3132000"/>
            <a:ext cx="107640" cy="108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087640" y="223200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87640" y="2519280"/>
            <a:ext cx="179280" cy="179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087640" y="280836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087640" y="395928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60720" y="450072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124000" y="3132000"/>
            <a:ext cx="108000" cy="108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411280" y="2519280"/>
            <a:ext cx="179640" cy="179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11280" y="3384720"/>
            <a:ext cx="17964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11280" y="3672000"/>
            <a:ext cx="17964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11280" y="3959280"/>
            <a:ext cx="17964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4248000"/>
            <a:ext cx="179640" cy="179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48000" y="3132000"/>
            <a:ext cx="108000" cy="108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735280" y="223200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735280" y="2519280"/>
            <a:ext cx="179280" cy="179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35280" y="280836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35280" y="338472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35280" y="367200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35280" y="395928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735280" y="453564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71640" y="3132000"/>
            <a:ext cx="108000" cy="108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60720" y="223200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60720" y="280836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60720" y="338472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60720" y="367200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060720" y="395928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60720" y="4248000"/>
            <a:ext cx="179280" cy="179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60720" y="453564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95640" y="3132000"/>
            <a:ext cx="108000" cy="108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384720" y="223200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384720" y="2519280"/>
            <a:ext cx="179280" cy="179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84720" y="280836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84720" y="338472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384720" y="453564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19640" y="3132000"/>
            <a:ext cx="107640" cy="108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08360" y="223200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08360" y="2519280"/>
            <a:ext cx="179280" cy="179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08360" y="280836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08360" y="338472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08360" y="367200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08360" y="395928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708360" y="4248000"/>
            <a:ext cx="179280" cy="179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43280" y="3132000"/>
            <a:ext cx="108000" cy="108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032360" y="223200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032360" y="280836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032360" y="367200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032360" y="395928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032360" y="4248000"/>
            <a:ext cx="179280" cy="179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032360" y="453564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068720" y="3132000"/>
            <a:ext cx="108000" cy="108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356000" y="2519280"/>
            <a:ext cx="179640" cy="179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356000" y="2808360"/>
            <a:ext cx="17964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356000" y="3384720"/>
            <a:ext cx="17964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356000" y="3672000"/>
            <a:ext cx="17964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356000" y="4248000"/>
            <a:ext cx="179640" cy="179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356000" y="4535640"/>
            <a:ext cx="17964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392720" y="3132000"/>
            <a:ext cx="108000" cy="108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80000" y="223200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0000" y="338472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80000" y="395928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80000" y="4248000"/>
            <a:ext cx="179280" cy="179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716360" y="3132000"/>
            <a:ext cx="108000" cy="108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03640" y="2519280"/>
            <a:ext cx="179640" cy="179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03640" y="2808360"/>
            <a:ext cx="17964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03640" y="3384720"/>
            <a:ext cx="17964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03640" y="3672000"/>
            <a:ext cx="17964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03640" y="3959280"/>
            <a:ext cx="17964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003640" y="4248000"/>
            <a:ext cx="179640" cy="179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03640" y="4535640"/>
            <a:ext cx="17964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40360" y="3132000"/>
            <a:ext cx="108000" cy="108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27640" y="223200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27640" y="280836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27640" y="338472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27640" y="367200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27640" y="395928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27640" y="4248000"/>
            <a:ext cx="179280" cy="179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27640" y="453564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64000" y="3132000"/>
            <a:ext cx="108000" cy="108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651640" y="223200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651640" y="2519280"/>
            <a:ext cx="179280" cy="179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651640" y="280836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651640" y="338472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651640" y="4248000"/>
            <a:ext cx="179280" cy="179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651640" y="453564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688000" y="3132000"/>
            <a:ext cx="108000" cy="108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975280" y="223200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975280" y="2519280"/>
            <a:ext cx="179280" cy="179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975280" y="338472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975280" y="367200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975280" y="395928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975280" y="453564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12000" y="3132000"/>
            <a:ext cx="107640" cy="108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300720" y="2519280"/>
            <a:ext cx="179280" cy="179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300720" y="280836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300720" y="338472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300720" y="367200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00720" y="4248000"/>
            <a:ext cx="179280" cy="179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335640" y="3132000"/>
            <a:ext cx="108000" cy="108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624720" y="223200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624720" y="2519280"/>
            <a:ext cx="179280" cy="179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624720" y="280836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624720" y="338472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624720" y="367200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624720" y="395928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624720" y="4248000"/>
            <a:ext cx="179280" cy="179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59640" y="3132000"/>
            <a:ext cx="108000" cy="108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948360" y="2232000"/>
            <a:ext cx="17964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948360" y="2808360"/>
            <a:ext cx="17964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948360" y="3384720"/>
            <a:ext cx="17964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948360" y="3959280"/>
            <a:ext cx="17964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948360" y="4248000"/>
            <a:ext cx="179640" cy="179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948360" y="4535640"/>
            <a:ext cx="17964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983280" y="3132000"/>
            <a:ext cx="108000" cy="108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272360" y="223200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72360" y="2519280"/>
            <a:ext cx="179280" cy="179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272360" y="280836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272360" y="338472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272360" y="395928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2360" y="4248000"/>
            <a:ext cx="179280" cy="179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2360" y="453564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307280" y="3132000"/>
            <a:ext cx="108000" cy="108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596360" y="2519280"/>
            <a:ext cx="179280" cy="179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596360" y="280836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596360" y="338472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596360" y="367200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596360" y="395928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632720" y="3132000"/>
            <a:ext cx="108000" cy="108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920000" y="223200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920000" y="2519280"/>
            <a:ext cx="179280" cy="179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920000" y="280836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20000" y="338472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920000" y="367200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920000" y="395928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920000" y="4248000"/>
            <a:ext cx="179280" cy="179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920000" y="453564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956720" y="3132000"/>
            <a:ext cx="107640" cy="108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244000" y="223200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244000" y="280836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244000" y="338472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244000" y="395928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244000" y="453564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280360" y="3132000"/>
            <a:ext cx="108000" cy="108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567640" y="3384720"/>
            <a:ext cx="17964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567640" y="3672000"/>
            <a:ext cx="17964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567640" y="4248000"/>
            <a:ext cx="179640" cy="179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567640" y="4535640"/>
            <a:ext cx="17964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604360" y="3132000"/>
            <a:ext cx="108000" cy="108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891640" y="2519280"/>
            <a:ext cx="179280" cy="179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891640" y="280836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8891640" y="338472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891640" y="395928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891640" y="4248000"/>
            <a:ext cx="179280" cy="179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891640" y="453564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928000" y="3132000"/>
            <a:ext cx="108000" cy="108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215280" y="2232000"/>
            <a:ext cx="17964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9215280" y="2808360"/>
            <a:ext cx="17964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215280" y="3384720"/>
            <a:ext cx="17964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215280" y="3672000"/>
            <a:ext cx="17964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9215280" y="4248000"/>
            <a:ext cx="179640" cy="179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9215280" y="4535640"/>
            <a:ext cx="17964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9252000" y="3132000"/>
            <a:ext cx="108000" cy="108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539280" y="223200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9539280" y="2519280"/>
            <a:ext cx="179280" cy="179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9539280" y="338472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9539280" y="367200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539280" y="453564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575640" y="3132000"/>
            <a:ext cx="108000" cy="108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3T19:00:13Z</dcterms:created>
  <dc:creator>micha </dc:creator>
  <dc:description/>
  <dc:language>en-US</dc:language>
  <cp:lastModifiedBy/>
  <cp:revision>1</cp:revision>
  <dc:subject/>
  <dc:title/>
</cp:coreProperties>
</file>